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1641-FC65-43DB-8D31-23FC9241D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828C-B435-4F07-83C0-3B9107F1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E8F8-62DA-4ABA-9624-FED949BFC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4FC9-F72C-425E-85C4-F8451DF84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A57F-8193-459C-A1DC-82A97352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2B43-6DC6-466D-968E-D38B4010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BD7D-02D8-4B62-97C5-72278C49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51D5-6742-4E72-9354-F6705D8E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1F13-1ED0-46B3-B2BC-C1DD9E13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DD1F-2D99-4777-A9C4-71D31ADF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C7B1-58FD-4096-99FF-B445C9BD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0395-602C-4F57-BBD4-7FB77F54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6845-3209-414A-A1D2-0CA8DD546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85 V mysli rád zaliet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ma neopust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aj kríž dopust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to sa vždy spoľahnúť smi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d sebou cieľ svoj zrie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odvahou kráčať vpre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 kríž niesť vžd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atočne ch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rdce vďačnosťou prekyp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môj hriech zomre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í Syn sá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kríž pre mňa zárukou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v ňom záchranc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ného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istova krv tiekl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enie priniesl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 záchranu iba v nej m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pásnu moc veriť sm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 mňa Pán trpel, v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raz večný život mi d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rdce vďačnosťou prekyp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môj hriech zomre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í Syn sá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kríž pre mňa zárukou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v ňom záchranc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ného m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mysli rád zalieta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, kde môj drahý Pá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kríži sa obetov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horký kalich p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by ma vykúp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ám za mňa život svoj d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rdce vďačnosťou prekyp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môj hriech zomre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í Syn sá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kríž pre mňa zárukou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v ňom záchranc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ného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vou kríž skrope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ie je docene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 neprijal najväčší D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nohí ho zavrh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ásou opovrh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pre nich nič neznamen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rdce vďačnosťou prekyp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môj hriech zomre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í Syn sá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kríž pre mňa zárukou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v ňom záchranc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ného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4T19:04:51Z</dcterms:modified>
  <cp:revision>20</cp:revision>
  <dc:subject/>
  <dc:title>Je veľký náš Pán, on slávy je Kráľ Nech do všetkých strán  spev vrúcnych znie chvál.</dc:title>
</cp:coreProperties>
</file>